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91D5-AB0F-4C00-BC3D-5C10CAE7F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43B0-B43E-47BC-9019-9A1FE1B2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284C-A613-4986-8D10-F817D273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4CC8-219F-4A6C-B3DD-B76ACAFA3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0544-8C3B-4D7E-ADB4-D7917BFFF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5A4E-BCD3-46EC-B759-540F0B54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4384-5F6F-48AA-B927-57EDD9DE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14BC-658E-4A7C-B43F-50A1D7BA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9D20-6DF2-4205-9A48-D63820150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3020-E8A7-4348-82C3-3B4C2DD3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028C-E70A-4903-8E4F-D6506F80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041D-D15F-43F5-9A34-A7D9FF88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FBDD-7547-48B5-9101-DF81640CA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51560" y="457200"/>
            <a:ext cx="323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mology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2819520"/>
            <a:ext cx="2241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an 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bed-fin fish f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t w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rd 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ct 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7920" y="2971800"/>
            <a:ext cx="257400" cy="982800"/>
          </a:xfrm>
          <a:custGeom>
            <a:avLst/>
            <a:gdLst>
              <a:gd name="textAreaLeft" fmla="*/ 164520 w 257400"/>
              <a:gd name="textAreaRight" fmla="*/ 257760 w 257400"/>
              <a:gd name="textAreaTop" fmla="*/ 25560 h 982800"/>
              <a:gd name="textAreaBottom" fmla="*/ 957240 h 98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57200" y="3203640"/>
            <a:ext cx="173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log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elim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4098960"/>
            <a:ext cx="198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homologous as forelimbs or 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82880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efinition: Structures (including genes) are homologous if they evolved from some structure in a common ance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5638680"/>
            <a:ext cx="786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gs are functionally classified, and are analagous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3489480"/>
            <a:ext cx="198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 homologous as w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409360" y="3641760"/>
            <a:ext cx="428760" cy="372960"/>
          </a:xfrm>
          <a:custGeom>
            <a:avLst/>
            <a:gdLst>
              <a:gd name="textAreaLeft" fmla="*/ 273960 w 428760"/>
              <a:gd name="textAreaRight" fmla="*/ 429120 w 428760"/>
              <a:gd name="textAreaTop" fmla="*/ 9720 h 372960"/>
              <a:gd name="textAreaBottom" fmla="*/ 363240 h 37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of the following structures are homologo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27807" t="6670" r="33749" b="50008"/>
          <a:stretch/>
        </p:blipFill>
        <p:spPr>
          <a:xfrm>
            <a:off x="5181480" y="3236760"/>
            <a:ext cx="2210040" cy="1868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3711600" cy="20397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152280"/>
            <a:ext cx="81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do we care about homology when building an anatomy ontolog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32440" y="990720"/>
            <a:ext cx="613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nsider an anatomy ontology of vertebr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anial skelet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ietal bone (in_organism hum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ietal bone (in_organism zebrafis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ntal bone (in_organism hum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ntal bone (in_organism zebrafi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5272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ologous : frontal bone (zebrafish) and parietal bone (hum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59880" y="34210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3693960"/>
            <a:ext cx="304920" cy="30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3421080"/>
            <a:ext cx="22860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17000" y="369396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5791320"/>
            <a:ext cx="7483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ifferent genes and developmental processes may underlie the development of the zebrafish frontal and the human frontal, even though they have the same name and are similarly 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572000" y="3268800"/>
            <a:ext cx="609480" cy="533160"/>
            <a:chOff x="4572000" y="3268800"/>
            <a:chExt cx="609480" cy="533160"/>
          </a:xfrm>
        </p:grpSpPr>
        <p:sp>
          <p:nvSpPr>
            <p:cNvPr id="62" name=""/>
            <p:cNvSpPr/>
            <p:nvPr/>
          </p:nvSpPr>
          <p:spPr>
            <a:xfrm>
              <a:off x="4572000" y="3268800"/>
              <a:ext cx="609480" cy="5331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4647960" y="3377880"/>
              <a:ext cx="456840" cy="304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06480" y="3657600"/>
            <a:ext cx="733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and where should homology information be captu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51814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mology between genes is already determined and recorded by the model organism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44640" y="798480"/>
            <a:ext cx="725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case: Query for phenotypes affecting the human frontal bone and its homologous structure in other spe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783880" y="2722680"/>
            <a:ext cx="3574800" cy="581400"/>
            <a:chOff x="2783880" y="2722680"/>
            <a:chExt cx="3574800" cy="581400"/>
          </a:xfrm>
        </p:grpSpPr>
        <p:sp>
          <p:nvSpPr>
            <p:cNvPr id="68" name=""/>
            <p:cNvSpPr/>
            <p:nvPr/>
          </p:nvSpPr>
          <p:spPr>
            <a:xfrm>
              <a:off x="2783880" y="2722680"/>
              <a:ext cx="3574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molog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ynony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4430520" y="2882880"/>
              <a:ext cx="212760" cy="306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357720" y="533520"/>
            <a:ext cx="28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 hom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3680" y="1371600"/>
            <a:ext cx="8375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 of gene homolog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s that diverged due to a speciation event are terme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rtho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s that diverged due to a duplication within a species are terme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ara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39625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 orthology is recorded using different types of evid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2160" y="5867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15383" t="35418" r="1537" b="39584"/>
          <a:stretch/>
        </p:blipFill>
        <p:spPr>
          <a:xfrm>
            <a:off x="4114800" y="5029200"/>
            <a:ext cx="4114800" cy="1324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71400" y="552276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erved lo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34440" y="6521400"/>
            <a:ext cx="164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im et al., 199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8160" y="5253120"/>
            <a:ext cx="74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g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354840" y="6046920"/>
            <a:ext cx="69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X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76240" y="36133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homology assignment is associated with reference to a physical piece of evidence, a person, or literatu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936800"/>
            <a:ext cx="7620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logy assignments are based on specific kinds of evid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P: Inferred from Posi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D: Inferred from 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IC: Inferred from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16040" y="4680000"/>
            <a:ext cx="740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ology statements include evidence and citations, and different homology statements are used to create and refine phylogeni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5652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omology between anatomical structures is already determined and but not yet captured in a database the evolutionary 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914400" y="728640"/>
          <a:ext cx="7162920" cy="582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28640"/>
                    <a:ext cx="7162920" cy="582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524520" y="380880"/>
            <a:ext cx="83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logous structures are already implicit within MODs ont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62120" y="1295280"/>
            <a:ext cx="75438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we need a relationship in OBO-REL to define homology? This is a symmetric relation between sisters and it is the relationship that requires evidence and attrib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uld homology assignments be a top-down or bottom up approach?eg. Pairs of taxa vs. CARO-centric assignments?  RE:domain experts are required.  It might be easier to enlist help in a pairwise man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ology needs to be captured for similarity searches.  Text or synonym searches are insufficient.  Does CARO take into account homology or is it a separate data s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two structures are deemed homologous, how does this information transfer down is_a chains? Need use c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913480" y="457200"/>
            <a:ext cx="324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ussion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0" t="14584" r="30002" b="6251"/>
          <a:stretch/>
        </p:blipFill>
        <p:spPr>
          <a:xfrm>
            <a:off x="304920" y="609480"/>
            <a:ext cx="85341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18:54:42Z</dcterms:created>
  <dc:creator>Melissa Haendel</dc:creator>
  <dc:description/>
  <dc:language>en-US</dc:language>
  <cp:lastModifiedBy>zfin user</cp:lastModifiedBy>
  <dcterms:modified xsi:type="dcterms:W3CDTF">2006-09-09T17:19:27Z</dcterms:modified>
  <cp:revision>20</cp:revision>
  <dc:subject/>
  <dc:title>Slide 1</dc:title>
</cp:coreProperties>
</file>